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171-868D-4D04-BEA9-3D3C70C4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EBD8-9618-4831-80A8-C5B0EE99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9A58-A5F7-4E11-ACE7-A80220C1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EF8-2ECF-4962-BCD9-DE8712FE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F6D1-7982-4BA5-A1D8-85D47B32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4965-DD72-4696-9079-4EC15492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1334-E2B6-4E86-A0FE-866BF3CD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AA38-D7AC-4F4D-B315-28C0A800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F1DAE-A578-4CCC-A63B-850E9686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E500-CF8B-46C9-B742-AA7CEC40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1568-3ABB-427A-9176-8D099BCF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157-A0E0-43D9-B78B-199F203F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CE7B-9C90-4442-9459-443F02A3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D4DE-BFB2-4799-9CAD-E29A922B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1FEF-D4E7-40E8-9624-09A2F4ED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D6EF-2979-4E81-BB7A-B3A6506F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7410-6A87-44A7-AE82-D8BB6A36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E89-5DC7-4E67-9ED5-4CEBC8B0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582-89B0-4C76-B0DA-088032E5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AB7A-4253-4EBA-BCF8-2F72BF7E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593-C8E3-4BF9-ACD8-35858424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60C-FC30-4050-A0B8-4A1ACE64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F5E-335F-4037-B6DE-00BD2165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BB9-8C36-49AB-8D5D-B9E86984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D174-8BC6-4FE4-B644-40EA6E0C76A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76C5-66A3-4D19-9D75-6747DEE9F4A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tT_8sFJx1w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olar_energy" TargetMode="External"/><Relationship Id="rId2" Type="http://schemas.openxmlformats.org/officeDocument/2006/relationships/hyperlink" Target="http://en.wikipedia.org/wiki/Solar_energy" TargetMode="External"/><Relationship Id="rId3" Type="http://schemas.openxmlformats.org/officeDocument/2006/relationships/hyperlink" Target="http://www.eia.doe.gov/kids/energyfacts/sources/renewable/solar.html" TargetMode="External"/><Relationship Id="rId4" Type="http://schemas.openxmlformats.org/officeDocument/2006/relationships/hyperlink" Target="http://www.engineeringk12.org/students/What_Is_Engineering/Engineering_Alphabet/Architectural_Engineering/default.php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0/Breakdown_of_the_incoming_solar_energy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lternate of Source of Energ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hwish Noma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ryal Tari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aiya Has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n Sa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26- natural gas was discovered and identified in Amer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ain- the first country to market the use of natural g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ound 1785- natural gas produced from c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59- Colonel Edwin Drake dug the first well hitting oil and natural gas at 69 feet below the surface of the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th century- natural gas was used as a source of l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is natural gas foun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857760" cy="2530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648320" y="3124080"/>
            <a:ext cx="38862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nd underneath the surface of the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t will rise towards the surface of through loose, shale type rock and other mate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Much Natural Gas is ther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’s Natural G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5181840" cy="3843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657600" y="6248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cember 200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62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Hydroelectricity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What is Hydroelectric power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Use of flowing water to create electricity is called hydroelectric ener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omes from the natural flow of wa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enewable energy source dependent upon the hydrologic cycle of wat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does it work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The energy is produced by the fall of water turning the blades of a turbi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Example: Dam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Video Cl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image_preview" descr=""/>
          <p:cNvPicPr/>
          <p:nvPr/>
        </p:nvPicPr>
        <p:blipFill>
          <a:blip r:embed="rId2"/>
          <a:stretch/>
        </p:blipFill>
        <p:spPr>
          <a:xfrm>
            <a:off x="4419720" y="3200400"/>
            <a:ext cx="464796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Hydroelectric Power in Canad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7" name="hydro_pie_chart" descr="Hydro - pie chart of hydroelectricity in Canada / diagramme à secteurs d’énergie hydroélectrique au Canada "/>
          <p:cNvPicPr/>
          <p:nvPr/>
        </p:nvPicPr>
        <p:blipFill>
          <a:blip r:embed="rId1"/>
          <a:stretch/>
        </p:blipFill>
        <p:spPr>
          <a:xfrm>
            <a:off x="457200" y="1523880"/>
            <a:ext cx="4476600" cy="3343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105520" y="1219320"/>
            <a:ext cx="380988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le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mes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Renewable source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vides inexpensi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electric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duces no pollu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es not destroy water during the production of electricit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Biofuel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fuels are fuels derived fro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Living Organis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Organic or food waste produ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consist of more than 80% of reusable material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are a source of solar energy (photosynthesis proces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s of Biofu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itives: Modern Diesel Engines = less noise, less pollution, more fuel efficiency and greater acceleration in vehic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ste vegetable oils = free source of bio-waste = cheaper fuel and better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Solar Energy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s of Biofu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gatives: The Food and Agriculture Organization of UN shows that the quick increase in the liquid biofuels might be threatening to the lives of rural women (farmers)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Biofuels Women"/>
          <p:cNvPicPr/>
          <p:nvPr/>
        </p:nvPicPr>
        <p:blipFill>
          <a:blip r:embed="rId1"/>
          <a:stretch/>
        </p:blipFill>
        <p:spPr>
          <a:xfrm>
            <a:off x="6095880" y="4191120"/>
            <a:ext cx="200052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pes of Biofue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odiese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as the first alternative source of energy. Can be used in existing vehicles (Bio ethano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oga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an alternative for natural gas. Produced from either plant of animal was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oma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s wood residue or excess straw being burnt to provide h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Biodiesel research"/>
          <p:cNvPicPr/>
          <p:nvPr/>
        </p:nvPicPr>
        <p:blipFill>
          <a:blip r:embed="rId1"/>
          <a:stretch/>
        </p:blipFill>
        <p:spPr>
          <a:xfrm>
            <a:off x="7391520" y="228600"/>
            <a:ext cx="1217520" cy="152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85800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ofuel Vide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REER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Solar Energ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1360" indent="-479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gricultural Advis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1360" indent="-479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rchitectural Engine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Natural Ga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etroleum Engine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otary Drill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Biofuel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iofuel Chemi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iofuels Bioprocess Engine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Hydroelectricity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ydroelectric Engineering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Hydroelectric project Electrici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1905120"/>
            <a:ext cx="365760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our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ngli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lcul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io-Chem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hys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ibliograph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en.wikipedia.org/wiki/Solar_energ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800"/>
            </a:b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www.eia.doe.gov/kids/energyfacts/sources/renewable/solar.htm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800"/>
            </a:br>
            <a:r>
              <a:rPr b="0" lang="en-US" sz="18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http://www.engineeringk12.org/students/What_Is_Engineering/Engineering_Alphabet/Architectural_Engineering/default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pge.com/microsite/safety_esw_ngsw/ngsw/more/careers.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naturalgas.org/index.as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careercruising.com/CASchool/SchoolProfile.aspx?LoginID=2da6ada9-2403-4af8-9464-98237c000bb8-&amp;SchoolCode=ABC12&amp;Langu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canren.gc.ca/tech_appl/index.asp?CaId=4 - 50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.wikipedia.org/wiki/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Hydroelectric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y - 116k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ww.darvill.clara.net/altenerg/hydro.htm - 24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alternative-energy-news.info/technology/biofuels/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520" y="533160"/>
            <a:ext cx="85345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nergy from the Su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ght and radiant heat from the sun also called Solar Pow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ary solar resourc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ave Pow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droelectric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iom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Earth receives 174 petawatts (PW) of external solar radiation at the upper  atmosphe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rox 30% reflects back to the space the rest is absorbed b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oud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cean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d Mass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800px-Breakdown_of_the_incoming_solar_energy.svg" descr="File:Breakdown of the incoming solar energy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1295280"/>
            <a:ext cx="6200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pplications of Solar Energy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Architecture and urban plan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Tahoma"/>
              </a:rPr>
              <a:t>Solar energy influences the designs of the building. Solar designs uses computers to put together Solar lighting, heating and ventilation system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3200" spc="-1" strike="noStrike">
                <a:solidFill>
                  <a:srgbClr val="ffffff"/>
                </a:solidFill>
                <a:latin typeface="Tahoma"/>
              </a:rPr>
              <a:t>Agriculture and Horticultur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of solar energy in order to help grow more pla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lar Light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y lighting system collects and distributes sunlight to provide interior illumina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lar Ther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, high and medium temperature collecto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w =</a:t>
            </a: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 flat plates generally used to heat swimming p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Medium = also usually flat plates but are used for creating hot water for residential and commercial 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Tahoma"/>
              </a:rPr>
              <a:t>High = concentrate sunlight using mirrors or lenses and are generally used for electric power pro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for water heating, space heating, space cool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ooftop picture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4343400" cy="2396880"/>
          </a:xfrm>
          <a:prstGeom prst="rect">
            <a:avLst/>
          </a:prstGeom>
          <a:ln w="0">
            <a:noFill/>
          </a:ln>
        </p:spPr>
      </p:pic>
      <p:pic>
        <p:nvPicPr>
          <p:cNvPr id="97" name="Erau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4305240" cy="2436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562720" y="1219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xed flat plate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45720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ngle axis tracking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15328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ahoma"/>
              </a:rPr>
              <a:t>Natural gas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What is Natural g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orless, shapeless, and odorless type of 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ammable mixture of hydrocarbon gases which is mainly of meth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s of oxygen, nitrogen, ethane, propane, butane and penta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d for heating homes, cooking and running applia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ed by the volume it takes up at normal temperatures and pressu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3:27:41Z</dcterms:created>
  <dc:creator>*</dc:creator>
  <dc:description/>
  <dc:language>en-US</dc:language>
  <cp:lastModifiedBy>Admin</cp:lastModifiedBy>
  <dcterms:modified xsi:type="dcterms:W3CDTF">2008-12-25T07:44:45Z</dcterms:modified>
  <cp:revision>17</cp:revision>
  <dc:subject/>
  <dc:title>Slide 1</dc:title>
</cp:coreProperties>
</file>